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0DD-AE3E-458D-8995-F5E09A09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0B2-F4FC-4482-9A1A-2184671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800-F055-4F55-BDB5-4EAEA54D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5D6-A188-4478-BDC4-4E44921B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82B-6A18-431C-9C20-CE14E383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C69-ABED-40B3-9DD9-FB08F5DD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CDD-9C48-4B5A-98D6-F47E09BE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E6B-EC6A-4BC7-9838-27AAC2D0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A25-E239-4FB6-B119-BE5C2A39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018-552E-4C27-B3C8-45131D43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C34-2C0C-4B5B-9DC9-7536589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ED7-2B53-4C67-9ADC-7AB7BF8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4CCD-7EB7-49E5-B397-A19A10798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apter 11 Revie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ENETIC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2149200" cy="201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1565280" cy="219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86400" y="2743200"/>
            <a:ext cx="32511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both alleles in the pair are the SAME the organism is _______________   or   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728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9:3:3: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7960" y="1447920"/>
            <a:ext cx="66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MOZYGOUS                P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880" y="3581280"/>
            <a:ext cx="873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phenotype ratio is a c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there has been a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tween 2 heterozygous parents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304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 = red flowers         r = white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7840" y="14479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1371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2600" y="266688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 flowers if this trait was COMPLETELY 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4960" y="2895480"/>
            <a:ext cx="837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 flowers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trait was INCOMPLETELY 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419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__ flowers if this trait was CO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5080" y="4038480"/>
            <a:ext cx="199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O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d &amp;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re Mendel’s 2 laws of hered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981080"/>
            <a:ext cx="64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w of Segregation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w of Independent Asso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74400" y="4800600"/>
            <a:ext cx="59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320" y="3962520"/>
            <a:ext cx="82566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ffspring of the P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called the ____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a trait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ows incomplete 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6240" y="190512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lower color in Four o’c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5680" y="594360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ue; Type O is the universal don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5400" y="3200400"/>
            <a:ext cx="843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UE  or  FAL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erson with Type O blood c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a blood donor for a person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 AB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both alleles in the pair are DIFFERENT the organism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  or 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920" y="16002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TEROZYGOUS       HYB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6400" y="441972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nohy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000" y="3733920"/>
            <a:ext cx="789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cross that involves only 1 tra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called a ____________  cro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= 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= sh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notype of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fspring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oss at the right is 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ir phenotype is 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2400" y="3581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2760" y="41911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0862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 following geno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homozygou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T       Ww      Bb          rr         mm       BB          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3560" y="2689200"/>
            <a:ext cx="60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T                            rr        mm      BB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1240" y="46926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4400" y="3962520"/>
            <a:ext cx="80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 name for homozygous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Punnett squares would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to predict the offspring of a DIHYBRID cro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4320" y="518148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is 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776600" cy="171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3200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cross at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ght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dominant for flower col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520" y="12952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9000" y="5257800"/>
            <a:ext cx="66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t                              Mm      R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" y="3962520"/>
            <a:ext cx="823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of the following gen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from a heterozygous organis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t     SS       bb        Mm      Rr        k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10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gene is a segment of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codes for a tr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2560" y="38088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9080" y="495288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4960" y="2895480"/>
            <a:ext cx="84286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aw of Segregation and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 of Independent Assortm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the result of the movement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omosomes during 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tosis           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is the “Father of Genetics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5160" y="1676520"/>
            <a:ext cx="35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gor Men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3200400"/>
            <a:ext cx="73054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2 alleles DON’T BL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t BOTH SHOW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ke in A B blood type, it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ominance              incomplete 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dom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unnett square below show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_____ cr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zygous        monohybrid       dihybrid        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000" y="9144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hyb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225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ossing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 haired hor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a white hair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se produces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an colored hor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Both alleles for hair color show together). This kind of inheritance is called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9520" y="4952880"/>
            <a:ext cx="30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-dom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73356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ype of genotype is used to make a test cro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4120" y="190512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mozygous rece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320" y="5334120"/>
            <a:ext cx="64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T            bt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bT            B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8128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guinea pigs, black fur (B)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minant over brown fur (b)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black Guinea pig is crossed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brownGuinea pig and the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ins a brown baby, the gen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black parent is proba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        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6280" y="5715000"/>
            <a:ext cx="6343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b;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ust have one B to be black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must have one b to pass on to 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Punnett squares would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to predict the offspring of a MONOHYBRID cro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20760" y="48006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is 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776600" cy="1712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3200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ossing individuals from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generation produces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 gener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1360" y="1752480"/>
            <a:ext cx="59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8098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733920"/>
            <a:ext cx="8915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gene is a segment of 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     PROTEIN      RNA     CARBO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304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= Blue legs               l = yellow le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8200" y="14479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371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1520" y="266688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523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 legs if this trait was COMPLETELY 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0200" y="281952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 legs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trait was INCOMPLETELY 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4419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__ legs if this trait was CO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4000" y="4038480"/>
            <a:ext cx="231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O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lue &amp; 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ossing individuals from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tion produces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 gener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78560" y="1752480"/>
            <a:ext cx="59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2895480"/>
            <a:ext cx="64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erson with this type of blood could DONATE to Type __________bl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209680" cy="20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266720" y="419112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 or 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monohybrid cross of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TEROZYGOUS parents (Pp), you would expect the offspring to b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pp:3 PP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Pp:1 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2160" y="5084640"/>
            <a:ext cx="383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 PP:2 Pp:1 pp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809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 PP:2 Pp:1 p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581280" y="30492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 a picture of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ood cell from a person with Type AB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666880" cy="2221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276360" cy="274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96880" y="3578400"/>
            <a:ext cx="8338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erson could give blood to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vidual with type ________ bl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blood type is called the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2240" y="419112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6240" y="5867280"/>
            <a:ext cx="299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ECIP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914400" cy="121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mission of characteristics from parents to offspring is called ___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 is the study of how characteristics are passed on from one generation to the nex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4640" y="19051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red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307656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581280" y="30492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 a picture of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ood cell from a person with Type O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160" y="5181480"/>
            <a:ext cx="83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blood type is called the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8880" y="5791320"/>
            <a:ext cx="20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O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12408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 change.  There are NO A, B, or O proteins on the surface of a type O c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2576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81280" y="30492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 a picture of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ood cell from a person with Type A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3809880"/>
            <a:ext cx="853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erson could give blood  to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vidual with type __________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4360" y="4419720"/>
            <a:ext cx="19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or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86000" cy="1839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25434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581280" y="30492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 a picture of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ood cell from a person with Type B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6000" y="3809880"/>
            <a:ext cx="853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erson could give blood  to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vidual with type __________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3640" y="4419720"/>
            <a:ext cx="19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 or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86000" cy="1839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2466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other blood type you learned about besides the A,B,O syst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11120" y="1981080"/>
            <a:ext cx="52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h (positive and negativ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6760" y="571500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160" y="3581280"/>
            <a:ext cx="89589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the molecule found on the su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cells which helps cells recognize “self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provides blood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114800" y="53352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arents in this cross are 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zygous           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30280" y="106668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ter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987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G is dominant for green pods and g is recessive for yellow pods, what percentage of the offspring will have green pods?   _______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428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66680" y="1295280"/>
          <a:ext cx="2361960" cy="195552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99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1219320" y="304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9680" y="1219320"/>
            <a:ext cx="6958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685800" y="380880"/>
          <a:ext cx="3124080" cy="327672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114800" y="533520"/>
            <a:ext cx="4648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enotype of the offspring in the blue box is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6960" y="1523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987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ffspring in the blue box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zygous               heter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94920" y="5378400"/>
            <a:ext cx="25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mozyg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762120" y="2209680"/>
          <a:ext cx="1066680" cy="1219320"/>
        </p:xfrm>
        <a:graphic>
          <a:graphicData uri="http://schemas.openxmlformats.org/drawingml/2006/table">
            <a:tbl>
              <a:tblPr/>
              <a:tblGrid>
                <a:gridCol w="304560"/>
                <a:gridCol w="406440"/>
                <a:gridCol w="3556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380880" y="228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guinea pigs black fur (B) is dominant over brown fur (b). The Punnett square for  a cross between a HETEROZYGOUS black guinea pig and a PURE brown guinea pig would look l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5520" y="3733920"/>
            <a:ext cx="204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his 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rrect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Heterozygous = 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ure brown = 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90920" y="2133720"/>
          <a:ext cx="1066680" cy="1207800"/>
        </p:xfrm>
        <a:graphic>
          <a:graphicData uri="http://schemas.openxmlformats.org/drawingml/2006/table">
            <a:tbl>
              <a:tblPr/>
              <a:tblGrid>
                <a:gridCol w="304920"/>
                <a:gridCol w="406440"/>
                <a:gridCol w="35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495680" y="2209680"/>
          <a:ext cx="1066680" cy="1208160"/>
        </p:xfrm>
        <a:graphic>
          <a:graphicData uri="http://schemas.openxmlformats.org/drawingml/2006/table">
            <a:tbl>
              <a:tblPr/>
              <a:tblGrid>
                <a:gridCol w="380880"/>
                <a:gridCol w="330480"/>
                <a:gridCol w="35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477120" y="2133720"/>
          <a:ext cx="1066320" cy="1218600"/>
        </p:xfrm>
        <a:graphic>
          <a:graphicData uri="http://schemas.openxmlformats.org/drawingml/2006/table">
            <a:tbl>
              <a:tblPr/>
              <a:tblGrid>
                <a:gridCol w="355320"/>
                <a:gridCol w="355320"/>
                <a:gridCol w="35568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685800" y="535932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name for pure is 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30280" y="53341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m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80880" y="304920"/>
          <a:ext cx="3505320" cy="301464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523880" y="3505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          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&amp; B are codominan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533520"/>
            <a:ext cx="40006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lleles for blood type show 2 kinds of inherit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llowing statements are TRUE or FAL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3581280"/>
            <a:ext cx="5943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is dominant over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is dominant over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is dominant over 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and A are co-domin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is incompletely dominant over 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is recessive to A and 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9625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          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 is recessive to both A &amp; B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5680" y="4343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4800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5680" y="5638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organism has the genotype  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he possible sperm it can produc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457200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819520"/>
            <a:ext cx="794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NK ABOUT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females have an XX genotype and can only give X genes, which parent is the one that determines whether the baby is a boy or gir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7960" y="175248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X                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0320" y="4800600"/>
            <a:ext cx="4598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her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mother always gives a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f the father gives a y, it’s 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f the father gives an X; it’s a gi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cross a homozygous RED flowered four o’clock plant with a homozygous WHITE flowered plant, ALL of the offspring produced  have PINK flow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type of inheritance in which the heterozygote (Rr) show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lend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raits is called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Dominant/recessiv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Co-d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 Incomplete d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86880" y="501984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complete d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 = An alle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IS MASKED BY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ence of another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2400" y="53352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ECES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9040" y="3635280"/>
            <a:ext cx="750348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ppearance of an organism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s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4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en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560" y="510552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ssible phenotypes of their offsp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%  and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228600"/>
            <a:ext cx="365760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throats (R) are dominant over white 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ats in Goonie bi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ross between a PURE RECESSIVE and a HETEROZYGOUS Goonie 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7000" y="5029200"/>
            <a:ext cx="31402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0% red throat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0% white thro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76212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r              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r                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371600" y="838080"/>
          <a:ext cx="2362320" cy="205704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</a:tblGrid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914400" y="22860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           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3160" y="487692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ssible phenotypes of their offsp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%  and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880"/>
            <a:ext cx="365760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 eyes (B) are dominant over red eyes (b) in r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ross between two HETEROZYGOUS r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7720" y="5029200"/>
            <a:ext cx="32058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5 % black eye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5% red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9520" y="677880"/>
            <a:ext cx="439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7680" y="574560"/>
            <a:ext cx="42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5560" y="0"/>
            <a:ext cx="2799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          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914400"/>
          <a:ext cx="2438280" cy="19558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1219320"/>
            <a:ext cx="2590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B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b           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114800" y="53352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arents in this cross are 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zygous           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6600" y="9907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m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7339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W is dominant for long wings and w is recessive for short wings, what percentage of these offspring will have short wings?   _______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88440" y="542916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%     only ww   makes it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3520" y="338040"/>
            <a:ext cx="35049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is the “Father of Genetics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59000" y="17971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egor Men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819520"/>
            <a:ext cx="8381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 following genotypes could be from a HETEROZYGOUS organis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T      Rr       Ww         bb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XX       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5334120"/>
            <a:ext cx="686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9880" y="228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kind of cross is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e dominant X pure rec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terozygous X heter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terozygous X hom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brid recessive X hybrid p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8000" y="297180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terozygous X Hom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267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name for heterozygous is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9240" y="41148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b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3526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ability the offspring will have straight tai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380880"/>
            <a:ext cx="365760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ebops curly tails (T) are dominant over straight tails (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ross between a HOMOZYGOUS DOMINANT and a HOMOZYGOUS RECESSIVE Reeb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5029200"/>
            <a:ext cx="41911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%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l will be Curly tailed (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82280" y="1447920"/>
            <a:ext cx="213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t              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t               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838080"/>
            <a:ext cx="4496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         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3880" y="1371600"/>
          <a:ext cx="2514600" cy="220968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4600" y="2133720"/>
            <a:ext cx="64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T          bt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bT            B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45720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581280"/>
            <a:ext cx="9220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53341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T          BT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BT          B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676520" y="1066680"/>
          <a:ext cx="5638680" cy="4191120"/>
        </p:xfrm>
        <a:graphic>
          <a:graphicData uri="http://schemas.openxmlformats.org/drawingml/2006/table">
            <a:tbl>
              <a:tblPr/>
              <a:tblGrid>
                <a:gridCol w="1127160"/>
                <a:gridCol w="1128600"/>
                <a:gridCol w="1127160"/>
                <a:gridCol w="1128600"/>
                <a:gridCol w="1127160"/>
              </a:tblGrid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772560" y="5486400"/>
            <a:ext cx="79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= T       short = t          R= round      r=wrin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eds             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040" y="282600"/>
            <a:ext cx="24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tRr X Tt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72520" y="1981080"/>
            <a:ext cx="410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TRR      TTRr     TtRR     Tt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TRr        TTrr       TtRr      Tt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tRR        TtRr       ttRR      tt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tRr         Ttrr         ttRr       tt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an example of a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HYBR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r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pattern of phenotypes will be seen in the offsp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1168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9:3:3: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438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offspring 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rt AND Round?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rt  AND wrinkl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 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3048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9600" y="29718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/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5160" y="350532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essive and domin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20760" y="472428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essive and rec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28720" y="4952880"/>
            <a:ext cx="300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HINT: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9- dominant for both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3- recessive and do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3- dominant and rec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1- recessive and rec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40840" y="3962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/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 we call the offspring of the 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gener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67640" y="1797120"/>
            <a:ext cx="59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2819520"/>
            <a:ext cx="8381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 following genotypes could be from a HOMOZYGOUS RECESSIVE organis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T       b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r       Ww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t        XX    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56386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b                                      tt                  aa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other name for heterozyg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5360" y="144792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b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3581280"/>
            <a:ext cx="573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diagram at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called a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191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unnett 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48520" y="3352680"/>
            <a:ext cx="25146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685800" y="380880"/>
          <a:ext cx="3124080" cy="327672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4114800" y="533520"/>
            <a:ext cx="4648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enotype of the offspring in the blue box is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zygous     heter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6360" y="3200400"/>
            <a:ext cx="24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eterozyg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3987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of the offspring from this cross will show the dominant characterist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4200" y="5378400"/>
            <a:ext cx="47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¾  (75%) – AA  and A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685800" y="380880"/>
          <a:ext cx="3124080" cy="327672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962520" y="533520"/>
            <a:ext cx="48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is dominant for green p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is recessive for yellow p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genotype of the offspring in the shaded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1520" y="3276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9877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henotype of the offspring in the shaded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160" y="46483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een 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hich of the following is NOT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otype determine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Alleles are different forms of the same g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otype is the way the ge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make you l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Organisms with different genotyp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   can have the same pheno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1828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0400" y="2666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7080" y="3962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9600" y="502920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t   and TT both look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3 different kinds of inheritance you learned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55760" y="1797120"/>
            <a:ext cx="61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minant/rec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-dom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3657600"/>
            <a:ext cx="83818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fspring of the 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ion are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50400" y="4419720"/>
            <a:ext cx="136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80880" y="464832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probable blood types of the offspr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380880"/>
            <a:ext cx="3657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possible offspring of a cross between a blood type AB mom and a type O 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4876920"/>
            <a:ext cx="25146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0%  Type 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0%  Typ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7960" y="1676520"/>
            <a:ext cx="218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o        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o       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83808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         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523880" y="1397160"/>
          <a:ext cx="2514600" cy="226044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 following crosses would you expect to see a 9:3:3:1 ratio in the offsp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SYY X ssy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sYy   X  SsY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sYY  X   SSy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2680" y="5257800"/>
            <a:ext cx="77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sYy X SsY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9:3:3:1 ratio is seen in dihybrid cro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28600" y="487692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ill the offspring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%  and 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380880"/>
            <a:ext cx="36576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le (P)is the dominant color for monsters. Yellow is recessive (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ross between a HOMOZYGOUS purple and a yellow mon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840" y="5486400"/>
            <a:ext cx="2009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00% pur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010280" y="3429000"/>
            <a:ext cx="1752840" cy="1332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96360" y="1295280"/>
            <a:ext cx="251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p         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p         Pp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8280" y="457200"/>
            <a:ext cx="335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           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143000" y="1066680"/>
          <a:ext cx="2743200" cy="2336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enotype would a PURPLE dad have to be to make a yellow monster baby with a Purple (Pp) mom mons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295280" y="2057400"/>
          <a:ext cx="2667240" cy="197964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92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876920" y="1919160"/>
            <a:ext cx="1714320" cy="1424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935760" y="2514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426708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ad needs to have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a little p to give one to the 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big P to be purple him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80880"/>
            <a:ext cx="449604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ma and Fred are going to have a bab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d in AA and Wilma is 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possible blood types of their bab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3040" y="3886200"/>
            <a:ext cx="4358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00% will have A type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6360" y="1295280"/>
            <a:ext cx="25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o         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o         Ao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6880" y="457200"/>
            <a:ext cx="316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       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295280" y="1143000"/>
          <a:ext cx="2743200" cy="2336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380880"/>
            <a:ext cx="449604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ma and Fred are going to have a bab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d in AA and Wilma is 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possible blood types of their bab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3040" y="3886200"/>
            <a:ext cx="4358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00% will have A type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6360" y="1295280"/>
            <a:ext cx="25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o         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o         Ao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6880" y="457200"/>
            <a:ext cx="316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       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95280" y="1143000"/>
          <a:ext cx="2743200" cy="2336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_____ = An allele that MASKS the presence of another all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d and white flowers produc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nk offspring is an exampl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ominance                     incomplete dominance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1400" y="331920"/>
            <a:ext cx="36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DOMINA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4640" y="4343400"/>
            <a:ext cx="60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ncomplete domin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4960" y="21337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T          rt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rT            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5720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r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3581280"/>
            <a:ext cx="9220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53341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G       wg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wG       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DIHYBRID HETEROZYGOUS cross the offspring that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/16 are _______________ for both tra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/16 are _____________ for one trait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 for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/16 are _____________ for both tra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7080" y="289548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omi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286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LL IN THE BLANKS WITH THE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inant   OR  Rec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3962520"/>
            <a:ext cx="24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omi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essiv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96000" y="553068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e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9296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is cross:       TtRr   X   Tt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e offspring will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AND white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red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AND red?  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white?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83080" y="3048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= T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=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= sho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=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038480"/>
            <a:ext cx="609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4480" y="4952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19160" y="581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9296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is cross:       TtYy   X   TtY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e offspring will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green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yellow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AND green?  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AND yellow?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59400" y="3124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= T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yellow p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= sho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green p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4038480"/>
            <a:ext cx="609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83080" y="4952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30080" y="5943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-152640" y="1219320"/>
            <a:ext cx="9296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is cross: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YYRR   X   yy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e offspring will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llow peas AND white flowers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en peas AND red flowers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llow peas AND red flowers?  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en peas AND white flowers?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64160" y="29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yellow pe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= red 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green pe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= white 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3886200"/>
            <a:ext cx="609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3280" y="4952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1160" y="5943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cessive gene is represented by a _________________ let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20960" y="114300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wer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4840" y="2743200"/>
            <a:ext cx="746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phenotypic ratio would yo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ect to see in offspring from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ohybrid cross of 2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terozygous par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3197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:1    Dominant:rece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different ge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oices for a tra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720" y="1523880"/>
            <a:ext cx="27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380880"/>
            <a:ext cx="2559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dominant gene is represented by a ____________ letter.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usually the first letter of the trai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960" y="914400"/>
            <a:ext cx="17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0" y="3124080"/>
            <a:ext cx="905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a heterozygous individual sh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blending of 2 alleles instead of o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ing dominant over the other it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  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6720" y="4952880"/>
            <a:ext cx="49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complete    dom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NHS NPS</cp:lastModifiedBy>
  <dcterms:modified xsi:type="dcterms:W3CDTF">2012-03-06T12:42:42Z</dcterms:modified>
  <cp:revision>48</cp:revision>
  <dc:subject/>
  <dc:title>asdfs</dc:title>
</cp:coreProperties>
</file>